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wmf" ContentType="image/x-wmf"/>
  <Override PartName="/ppt/media/image20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34.wmf" ContentType="image/x-wmf"/>
  <Override PartName="/ppt/media/image13.jpeg" ContentType="image/jpeg"/>
  <Override PartName="/ppt/media/image3.jpeg" ContentType="image/jpeg"/>
  <Override PartName="/ppt/media/image8.png" ContentType="image/png"/>
  <Override PartName="/ppt/media/image38.png" ContentType="image/png"/>
  <Override PartName="/ppt/media/image30.jpeg" ContentType="image/jpeg"/>
  <Override PartName="/ppt/media/image37.wmf" ContentType="image/x-wmf"/>
  <Override PartName="/ppt/media/image9.wmf" ContentType="image/x-wmf"/>
  <Override PartName="/ppt/media/image39.wmf" ContentType="image/x-wmf"/>
  <Override PartName="/ppt/media/image32.jpeg" ContentType="image/jpeg"/>
  <Override PartName="/ppt/media/image33.wmf" ContentType="image/x-wmf"/>
  <Override PartName="/ppt/media/image12.jpeg" ContentType="image/jpeg"/>
  <Override PartName="/ppt/media/image11.png" ContentType="image/png"/>
  <Override PartName="/ppt/media/image31.png" ContentType="image/png"/>
  <Override PartName="/ppt/media/image29.wmf" ContentType="image/x-wmf"/>
  <Override PartName="/ppt/media/image10.wmf" ContentType="image/x-wmf"/>
  <Override PartName="/ppt/media/image4.jpeg" ContentType="image/jpeg"/>
  <Override PartName="/ppt/media/image19.jpeg" ContentType="image/jpeg"/>
  <Override PartName="/ppt/media/image25.png" ContentType="image/png"/>
  <Override PartName="/ppt/media/image35.gif" ContentType="image/gif"/>
  <Override PartName="/ppt/media/image7.jpeg" ContentType="image/jpeg"/>
  <Override PartName="/ppt/media/image28.jpeg" ContentType="image/jpeg"/>
  <Override PartName="/ppt/media/image6.png" ContentType="image/png"/>
  <Override PartName="/ppt/media/image36.png" ContentType="image/png"/>
  <Override PartName="/ppt/media/image2.jpeg" ContentType="image/jpeg"/>
  <Override PartName="/ppt/media/image23.jpeg" ContentType="image/jpeg"/>
  <Override PartName="/ppt/media/image5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95F1-D696-4D2D-A90F-783FBD044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D332-1867-4FF5-883F-0BF5CCEC8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D0A4-DA60-4290-B0F0-0996B3456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3544-187C-414E-A42F-029BE78B8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EB51-44F4-44D0-99B0-44021AEFD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156F-91A0-480A-B0C7-F9CEA6DB0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7AE7-53BD-418B-B1A4-272383F68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4E057-AD93-4A48-8741-8E4E2BE82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4939-2AB0-474E-8B85-405E06D89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E005-9C07-4D33-A438-C3D4E2772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66BF-DDEF-47C1-8B43-21698AEC0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BC17-4C77-4D34-B6C8-BF0196D05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B4D9-BE7E-426E-9F13-1BF851BD6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24CF-ED6C-4D0D-B3A9-E2BC2E400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DE3D-E28B-400E-B6AA-84FDFC060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D3D1-9AC7-4A50-B7FF-47B17EF80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530A-415D-47CB-8AD3-76D6D83DA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4D7B-AF29-4950-927F-AF35CA460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C651-9947-430F-B743-FC2AE6EB1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74D9D-B33F-45DE-9BF5-0913CD13EB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CC34C-317E-4EC4-BE2A-F7E2FB37B0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83A41-1879-4025-BF8C-FB13003724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7C8D8-9325-4030-AB08-FA57C35328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4D671-509C-4D00-AB0E-65D04B8BCC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3BCCF-7055-44D4-BEB0-D5F1C2D904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83CEB-2E98-492C-909E-5637FA1190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63C1C-6207-4468-A089-6F00304B93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40668-F1F3-4C29-80EA-F7B1F56DEB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91FEC-C38D-4D44-A8A9-3B412BCFC6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FA96E-698B-4FAB-AA6C-FAF1142E16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2EF63-3997-449B-83FC-D94BF3F6F4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8BC9-C7EC-443E-8CB1-CC75A1C1CB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gif"/><Relationship Id="rId4" Type="http://schemas.openxmlformats.org/officeDocument/2006/relationships/image" Target="../media/image35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image" Target="../media/image36.png"/><Relationship Id="rId10" Type="http://schemas.openxmlformats.org/officeDocument/2006/relationships/image" Target="../media/image36.png"/><Relationship Id="rId11" Type="http://schemas.openxmlformats.org/officeDocument/2006/relationships/image" Target="../media/image37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39.wmf"/><Relationship Id="rId7" Type="http://schemas.openxmlformats.org/officeDocument/2006/relationships/image" Target="../media/image37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Text Box 16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Gestion de l’inform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0F4A-51F8-40F4-BAFF-DF9E252439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gistres/feuilles de travail et processus de vérific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Line 13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8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0" descr="5_req_form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33"/>
          <p:cNvSpPr/>
          <p:nvPr/>
        </p:nvSpPr>
        <p:spPr>
          <a:xfrm rot="5400000">
            <a:off x="4419720" y="2666880"/>
            <a:ext cx="83808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DDFB-49F2-4AF4-B9FD-4D9AA4EC54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tection des donné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4"/>
          <p:cNvSpPr/>
          <p:nvPr/>
        </p:nvSpPr>
        <p:spPr>
          <a:xfrm>
            <a:off x="685800" y="1600200"/>
            <a:ext cx="693432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ystèmes pa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des matériaux du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ocker les registres prop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ystèmes informatis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voir des sauvegardes régulières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10F6-B0DE-4D39-BF36-47BFD27DEB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téger la confidentialité / sécur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1" name="Picture 19" descr="j0178425"/>
          <p:cNvPicPr/>
          <p:nvPr/>
        </p:nvPicPr>
        <p:blipFill>
          <a:blip r:embed="rId1"/>
          <a:stretch/>
        </p:blipFill>
        <p:spPr>
          <a:xfrm>
            <a:off x="3657600" y="4608360"/>
            <a:ext cx="2590920" cy="17528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21"/>
          <p:cNvSpPr/>
          <p:nvPr/>
        </p:nvSpPr>
        <p:spPr>
          <a:xfrm>
            <a:off x="533520" y="1219320"/>
            <a:ext cx="8076960" cy="50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directeur de laboratoire est responsables de la mise en place de lignes de conduite et de procédures pour :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téger l’intimité des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confidentialité des donné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3" descr="j0409031"/>
          <p:cNvPicPr/>
          <p:nvPr/>
        </p:nvPicPr>
        <p:blipFill>
          <a:blip r:embed="rId2"/>
          <a:stretch/>
        </p:blipFill>
        <p:spPr>
          <a:xfrm>
            <a:off x="1295280" y="459756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6" descr="MCj02506500000[1]"/>
          <p:cNvPicPr/>
          <p:nvPr/>
        </p:nvPicPr>
        <p:blipFill>
          <a:blip r:embed="rId3"/>
          <a:stretch/>
        </p:blipFill>
        <p:spPr>
          <a:xfrm>
            <a:off x="5334120" y="4684680"/>
            <a:ext cx="17985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84D2-844C-4A44-8C09-04C5D9E26D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s de compte rendu des résultats d’analys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8" name="AutoShape 13"/>
          <p:cNvSpPr/>
          <p:nvPr/>
        </p:nvSpPr>
        <p:spPr>
          <a:xfrm>
            <a:off x="38088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2666880" y="2590920"/>
            <a:ext cx="4419720" cy="42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port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i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cilement compréh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457200" y="3200400"/>
            <a:ext cx="1447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Echantillon 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nalyse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: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7" descr="j0433870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8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dresse: 1234 Littletown Road, Bergly Bay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9" descr="j0309628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8D9C-8943-4BA5-AD7D-B047BD82D7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6" descr="j0422773"/>
          <p:cNvPicPr/>
          <p:nvPr/>
        </p:nvPicPr>
        <p:blipFill>
          <a:blip r:embed="rId1"/>
          <a:stretch/>
        </p:blipFill>
        <p:spPr>
          <a:xfrm>
            <a:off x="6248520" y="4724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3" descr="j0151699"/>
          <p:cNvPicPr/>
          <p:nvPr/>
        </p:nvPicPr>
        <p:blipFill>
          <a:blip r:embed="rId2"/>
          <a:stretch/>
        </p:blipFill>
        <p:spPr>
          <a:xfrm>
            <a:off x="7162920" y="184464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évelopper un bon système pour communiquer 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 sein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les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autre personnel soign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laboratoires de référ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organismes offici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14"/>
          <p:cNvSpPr/>
          <p:nvPr/>
        </p:nvSpPr>
        <p:spPr>
          <a:xfrm>
            <a:off x="7086600" y="32925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Tekton Pro"/>
              </a:rPr>
              <a:t>Différentes équi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C982-EA9D-4759-B228-8190E434D4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5"/>
          <p:cNvGrpSpPr/>
          <p:nvPr/>
        </p:nvGrpSpPr>
        <p:grpSpPr>
          <a:xfrm>
            <a:off x="380880" y="533520"/>
            <a:ext cx="8381880" cy="5757480"/>
            <a:chOff x="380880" y="533520"/>
            <a:chExt cx="8381880" cy="5757480"/>
          </a:xfrm>
        </p:grpSpPr>
        <p:sp>
          <p:nvSpPr>
            <p:cNvPr id="255" name="AutoShape 4"/>
            <p:cNvSpPr/>
            <p:nvPr/>
          </p:nvSpPr>
          <p:spPr>
            <a:xfrm>
              <a:off x="380880" y="533520"/>
              <a:ext cx="8381880" cy="57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ystèm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informatiqu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incompatib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Erreurs de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transmis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onnées peu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organis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Archivage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médioc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Formulair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inadéqua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nsuffi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onné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ncomplè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AutoShape 21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3"/>
          <p:cNvSpPr/>
          <p:nvPr/>
        </p:nvSpPr>
        <p:spPr>
          <a:xfrm>
            <a:off x="3124080" y="28954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Problèmes cou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74A4-CF0C-49BB-8D0E-12C25B66C8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manuel basé sur papi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6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0"/>
          <p:cNvSpPr/>
          <p:nvPr/>
        </p:nvSpPr>
        <p:spPr>
          <a:xfrm>
            <a:off x="457200" y="1219320"/>
            <a:ext cx="6095880" cy="60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Requière des registres et des carnets bien conçu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atiques à utiliser et faciles à rempl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cilite la recherche de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i facilite la rédaction des compte-rendus et le résumé des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8" descr="j0408884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0C0B-3C9E-4711-A5FE-EB1682F122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5"/>
          <p:cNvSpPr/>
          <p:nvPr/>
        </p:nvSpPr>
        <p:spPr>
          <a:xfrm>
            <a:off x="304920" y="33526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Age pas enregist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2"/>
          <p:cNvSpPr/>
          <p:nvPr/>
        </p:nvSpPr>
        <p:spPr>
          <a:xfrm>
            <a:off x="6324480" y="548640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Nom du village pas enregist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dans la colonne vil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457200" y="30492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ntrée des donné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6A77-1938-4C87-970D-42C4491422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296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685800" y="3048120"/>
            <a:ext cx="259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Illisible- l’encre a traversé de l’autre côté de la feu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2"/>
          <p:cNvSpPr/>
          <p:nvPr/>
        </p:nvSpPr>
        <p:spPr>
          <a:xfrm>
            <a:off x="3657600" y="3733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Écriture ill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5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209B-3D8C-412E-B7A4-A424F1EB3E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manuel basé sur papi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compte-rendu est le produit primaire – rendez le professi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esoin d’une copie pour les arch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arder les registres dans un endroit sû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D067-6E4E-4666-A305-90F1F81D96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 les participants seront en mesure de 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éléments importants d’un système de gestion de l’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pliquer quels sont les points à considérer lors de l’élaboration d’un système manuel d’information papier (non électroniqu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avantages et les inconvénients d’un système informatisé de gestion de l’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D7B7-EF6D-467A-B0B7-07EF05EE6D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Buts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uver un résult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cer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aluer les problèm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ègles utiles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garder tout pendant un certain tem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 un accès fac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un système logique de class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uméroter dans l’ordre chronolog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304920" y="45720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manuel basé sur papier –stock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3" descr="MCj02374610000[1]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14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BA49-6213-4FBA-957E-E5819E0ED7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3" descr="stack of records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mouse_cdc_hantavirus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19" name="AutoShape 6"/>
          <p:cNvSpPr/>
          <p:nvPr/>
        </p:nvSpPr>
        <p:spPr>
          <a:xfrm>
            <a:off x="1447920" y="4114800"/>
            <a:ext cx="2209680" cy="19051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030C-AD37-42EE-BB51-E76B3107F6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informatis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ptions de logici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s développés localement sur la base de logiciels commercialement disponibles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s déjà développé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echercher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intenance du système informatique, sauvegar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cur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ccè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fidentia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raça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itesse, flexi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Picture 8" descr="j0285750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9" descr="j0205466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0" descr="_twirling"/>
          <p:cNvPicPr/>
          <p:nvPr/>
        </p:nvPicPr>
        <p:blipFill>
          <a:blip r:embed="rId3"/>
          <a:stretch/>
        </p:blipFill>
        <p:spPr>
          <a:xfrm>
            <a:off x="6095880" y="6095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1" descr="_twirling"/>
          <p:cNvPicPr/>
          <p:nvPr/>
        </p:nvPicPr>
        <p:blipFill>
          <a:blip r:embed="rId4"/>
          <a:stretch/>
        </p:blipFill>
        <p:spPr>
          <a:xfrm>
            <a:off x="8229600" y="43434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8F6C-5B23-43AC-810E-CA5705BA22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2"/>
          <p:cNvGrpSpPr/>
          <p:nvPr/>
        </p:nvGrpSpPr>
        <p:grpSpPr>
          <a:xfrm>
            <a:off x="533520" y="609480"/>
            <a:ext cx="8304840" cy="5668560"/>
            <a:chOff x="533520" y="609480"/>
            <a:chExt cx="8304840" cy="5668560"/>
          </a:xfrm>
        </p:grpSpPr>
        <p:sp>
          <p:nvSpPr>
            <p:cNvPr id="331" name="AutoShape 3"/>
            <p:cNvSpPr/>
            <p:nvPr/>
          </p:nvSpPr>
          <p:spPr>
            <a:xfrm>
              <a:off x="533520" y="609480"/>
              <a:ext cx="8304840" cy="56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tégra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avec autr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Ges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financiè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ntrôl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’accè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race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nalys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l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tenda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race l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comp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rend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p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endu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isibl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étaill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’extrac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e données</a:t>
              </a: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éduc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d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erreurs 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1" name="Picture 29" descr="j0205582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2" name="Text Box 13"/>
          <p:cNvSpPr/>
          <p:nvPr/>
        </p:nvSpPr>
        <p:spPr>
          <a:xfrm>
            <a:off x="304920" y="4572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vant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76BF-2FCC-4CCF-A6C0-7FCF1E52A7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2"/>
          <p:cNvGrpSpPr/>
          <p:nvPr/>
        </p:nvGrpSpPr>
        <p:grpSpPr>
          <a:xfrm>
            <a:off x="380880" y="533520"/>
            <a:ext cx="8457480" cy="5703480"/>
            <a:chOff x="380880" y="533520"/>
            <a:chExt cx="8457480" cy="5703480"/>
          </a:xfrm>
        </p:grpSpPr>
        <p:sp>
          <p:nvSpPr>
            <p:cNvPr id="356" name="AutoShape 3"/>
            <p:cNvSpPr/>
            <p:nvPr/>
          </p:nvSpPr>
          <p:spPr>
            <a:xfrm>
              <a:off x="380880" y="533520"/>
              <a:ext cx="8457480" cy="57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auvegardes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equi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ûts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chat et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dapta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à un nouveau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systè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Formation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emps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et arg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6" name="Picture 14" descr="MCj00787140000[1]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7" name="Text Box 13"/>
          <p:cNvSpPr/>
          <p:nvPr/>
        </p:nvSpPr>
        <p:spPr>
          <a:xfrm>
            <a:off x="228600" y="53352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Inconvén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7" descr="j0205582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B993-D358-4A9D-9B84-8EBFFF2B42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ème pour gérer les données entrantes et sortan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ème basé sur papier ou informatisé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deux requièrent un cadre similaire, identifiants uniques, formulaires, registres et feuilles de travai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oût est un élément majeur du système informatisé.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96DF-23B7-4E23-9158-8EB486CEFA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bon système de gestion de l’information 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que toutes les données – produit final du laboratoire – sont bien gér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visagera, lors de la planification, toutes les modalités d’utilisation des donn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l’accessibilité, l’exactitude, l’à propos et la sécurité des donn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la confidentialité des données et l’intimité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3AC3-849D-4F75-A9D1-834BDE1B66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486040" y="1980720"/>
            <a:ext cx="3505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0" name="Picture 63" descr="bulles_def"/>
          <p:cNvPicPr/>
          <p:nvPr/>
        </p:nvPicPr>
        <p:blipFill>
          <a:blip r:embed="rId1"/>
          <a:stretch/>
        </p:blipFill>
        <p:spPr>
          <a:xfrm>
            <a:off x="457200" y="114300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A67E-74BA-4282-BD0E-415DCD746D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« Vous gérez un laboratoire pour un hôpital de 300 lits et l’administrateur vous a informé que des fonds étaient disponibles pour acheter un système de gestion de laboratoire informatisé. 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mment évalueriez vous la pertinence d’un tel système pour le laboratoire?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3AC4-2A49-443C-8581-3903C3E798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39" name="Picture 145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C9FA-4029-4FE3-BF9C-EC2224F084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ôle dans 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533520" y="12952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d911"/>
                </a:solidFill>
                <a:latin typeface="Verdana"/>
                <a:ea typeface="SimSun"/>
              </a:rPr>
              <a:t>Le résultat d’analyse est le produit final du 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8"/>
          <p:cNvSpPr/>
          <p:nvPr/>
        </p:nvSpPr>
        <p:spPr>
          <a:xfrm>
            <a:off x="1447920" y="40384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752480" y="480060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compte-rendu de la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j0433870"/>
          <p:cNvPicPr/>
          <p:nvPr/>
        </p:nvPicPr>
        <p:blipFill>
          <a:blip r:embed="rId1"/>
          <a:stretch/>
        </p:blipFill>
        <p:spPr>
          <a:xfrm>
            <a:off x="1828800" y="4267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elderly_patient_doc"/>
          <p:cNvPicPr/>
          <p:nvPr/>
        </p:nvPicPr>
        <p:blipFill>
          <a:blip r:embed="rId2"/>
          <a:stretch/>
        </p:blipFill>
        <p:spPr>
          <a:xfrm>
            <a:off x="5791320" y="34290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13"/>
          <p:cNvSpPr/>
          <p:nvPr/>
        </p:nvSpPr>
        <p:spPr>
          <a:xfrm>
            <a:off x="4038480" y="4876920"/>
            <a:ext cx="2514600" cy="9144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DBFC-3E00-4229-ADB2-4DE84FCC7D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8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Gestion de l’inform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8" descr="MCj01885290000[1]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0" descr="MCj01885270000[1]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1"/>
          <p:cNvSpPr/>
          <p:nvPr/>
        </p:nvSpPr>
        <p:spPr>
          <a:xfrm>
            <a:off x="609480" y="2438280"/>
            <a:ext cx="1600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Basé sur pap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2"/>
          <p:cNvSpPr/>
          <p:nvPr/>
        </p:nvSpPr>
        <p:spPr>
          <a:xfrm>
            <a:off x="457200" y="58672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lectro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4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tablir des processus pour gérer les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9"/>
          <p:cNvSpPr/>
          <p:nvPr/>
        </p:nvSpPr>
        <p:spPr>
          <a:xfrm>
            <a:off x="2438280" y="37018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Information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60"/>
          <p:cNvSpPr/>
          <p:nvPr/>
        </p:nvSpPr>
        <p:spPr>
          <a:xfrm rot="5400000">
            <a:off x="-1486440" y="2933640"/>
            <a:ext cx="4038840" cy="762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61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2"/>
          <p:cNvSpPr/>
          <p:nvPr/>
        </p:nvSpPr>
        <p:spPr>
          <a:xfrm>
            <a:off x="5257800" y="3429000"/>
            <a:ext cx="3124080" cy="35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port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û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fident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i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3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4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6" descr="j0433870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4304-A4FD-4D7F-B075-0F6B0B2813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8"/>
          <p:cNvGrpSpPr/>
          <p:nvPr/>
        </p:nvGrpSpPr>
        <p:grpSpPr>
          <a:xfrm>
            <a:off x="228600" y="609480"/>
            <a:ext cx="8686440" cy="5714640"/>
            <a:chOff x="228600" y="609480"/>
            <a:chExt cx="8686440" cy="5714640"/>
          </a:xfrm>
        </p:grpSpPr>
        <p:sp>
          <p:nvSpPr>
            <p:cNvPr id="170" name="AutoShape 7"/>
            <p:cNvSpPr/>
            <p:nvPr/>
          </p:nvSpPr>
          <p:spPr>
            <a:xfrm>
              <a:off x="228600" y="609480"/>
              <a:ext cx="8686440" cy="57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br>
                <a:rPr sz="2100"/>
              </a:br>
              <a:r>
                <a:rPr b="0" lang="fr-FR" sz="2100" spc="-1" strike="noStrike">
                  <a:solidFill>
                    <a:srgbClr val="000000"/>
                  </a:solidFill>
                  <a:latin typeface="Verdana"/>
                </a:rPr>
                <a:t>efficac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Système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compte rendu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efficac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Confidentie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Protection des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donné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Processus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vérifica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Registres,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feuilles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travai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Formulaire de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demande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standardis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Identifiants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patients,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échantillons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uniqu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26"/>
          <p:cNvSpPr/>
          <p:nvPr/>
        </p:nvSpPr>
        <p:spPr>
          <a:xfrm>
            <a:off x="3124080" y="2590920"/>
            <a:ext cx="312444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Éléments Import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E48C-B5A9-4691-8606-CF4E2833B4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Identifiants uni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3352680"/>
            <a:ext cx="91440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laboratoires doivent assigner des identifiants uniques aux échantillon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de: AAMMJJXXXX - 0905120047 signifie échantillon n° 47 reçu le 12 mai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Picture 12" descr="patient-wristband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Test_Bracket_patient-safety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4"/>
          <p:cNvSpPr/>
          <p:nvPr/>
        </p:nvSpPr>
        <p:spPr>
          <a:xfrm>
            <a:off x="2819520" y="1523880"/>
            <a:ext cx="2438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ant du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11EE-7A6A-43A4-A965-D99BD0D15E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1" descr="5_sample_reqs"/>
          <p:cNvPicPr/>
          <p:nvPr/>
        </p:nvPicPr>
        <p:blipFill>
          <a:blip r:embed="rId1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Formulaire de demande d’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Line 14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AutoShape 18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2" name="Group 19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03" name="Group 20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04" name="Picture 21" descr=""/>
              <p:cNvPicPr/>
              <p:nvPr/>
            </p:nvPicPr>
            <p:blipFill>
              <a:blip r:embed="rId2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5" name="Group 22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06" name="Line 23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24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25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26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0" name="Text Box 27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8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29"/>
          <p:cNvSpPr/>
          <p:nvPr/>
        </p:nvSpPr>
        <p:spPr>
          <a:xfrm>
            <a:off x="5791320" y="4343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Exigence I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0" descr="5_req_form"/>
          <p:cNvPicPr/>
          <p:nvPr/>
        </p:nvPicPr>
        <p:blipFill>
          <a:blip r:embed="rId3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5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2:51:51Z</dcterms:modified>
  <cp:revision>110</cp:revision>
  <dc:subject/>
  <dc:title>Slide 1</dc:title>
</cp:coreProperties>
</file>